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0C3-E59F-49E6-BB7A-126021C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C88-6CAB-4F37-AE2A-E05982B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C84-BCA7-486D-9AEC-5BC1D2D9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3DE-550F-4BC7-8654-CB52496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2D64-56FC-4617-81E3-5AA7490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EF6-DA33-47E7-AA43-7E7EF7D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1A0-3F7D-4A18-A58D-4FE9C9D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5FC-9C09-4A6B-B185-406ADE5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2518-1DD7-4123-A56B-E82ABFC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378-EE70-4F7B-8BC6-86664EE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E47-048F-4C3E-B62F-E2E3155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B0B-7376-49CE-8959-66A0CE0C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DC21-E30C-4F17-8CBB-2860416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1FA2-1BC2-4CF2-B220-A97D047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C1E6-BE76-47D5-9BC9-EE176F46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C87F-0D4F-45EA-AFA5-1ABA26B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828E-6D18-46C1-AC2E-09338B30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026-C7EC-4EE0-825F-F0BE797A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3E5-A29A-4520-9E51-6134954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F8F-4773-419E-B670-D787C528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C39-F497-4BFB-B8C0-0C093E8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D71-7AA8-4BDC-9F5C-C78B5C4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03D-CD2C-4CEE-A5E1-09B56C2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F3E-7D7E-40D5-9E02-A27509A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8A34-6DD6-46A3-8D8A-52C4174E6C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DD5-70CF-499F-8796-E9DB802A8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tsachen-ueber-deutschland.de/en/culture-and-media.html" TargetMode="External"/><Relationship Id="rId2" Type="http://schemas.openxmlformats.org/officeDocument/2006/relationships/hyperlink" Target="http://www.cometogermany.com/ENU/culture_and_events/germany_cultur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c/Berlinale_Palast_Einga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lue Highway Linocut"/>
              </a:rPr>
              <a:t>GERMAN CUSTOMS AND TRADITION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ue Highway Linocut"/>
              </a:rPr>
              <a:t>THE A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WORK CIT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14400" y="1295280"/>
            <a:ext cx="7543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ue Highway Linocut"/>
              </a:rPr>
              <a:t>Author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lue Highway Linocut"/>
              </a:rPr>
              <a:t>REBECCA KI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lue Highway Linocut"/>
              </a:rPr>
              <a:t>Article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tatsachen-ueber-deutschland.de/en/culture-and-media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cometogermany.com/ENU/culture_and_events/germany_culture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istawide.com/german/german_music/german_music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lue Highway Linocut"/>
              </a:rPr>
              <a:t>Illustration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en.wikipedia.org/wiki/File:Berlinale_Palast_Eingang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ropi.com/de/berlin/standorte/bebelplatz-9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tz-online.de/nachrichten/stars/nena-wird-grossmutter-365633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metrolyrics.com/helene-fischer-pictures-pic-93374.htm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1: “Facts about Germany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has 94,000 new books per ye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are around 130 professional orchestra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ainting revelation was caused by the “Young German Artists“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media includes both public and private media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press performs analysis on current top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312444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1: Berlin International Film Festiv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5" descr="File:Berlinale Palast Einga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7621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2: “Come to Germany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Berlin is the former leading center of expressionism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modern and post-modern art is fam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is home to over 100 classical musical theate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amous German composers: Beethoven, Bach, Schumann, Mendelssohn, and Brahm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oethe is one of the famous German poets and philosophe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320040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2: Book Tower in Bebelplatz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9" descr="0)"/>
          <p:cNvPicPr/>
          <p:nvPr/>
        </p:nvPicPr>
        <p:blipFill>
          <a:blip r:embed="rId1"/>
          <a:stretch/>
        </p:blipFill>
        <p:spPr>
          <a:xfrm>
            <a:off x="4419720" y="228600"/>
            <a:ext cx="4286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3: “World Languages &amp; Culture: German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is famous for its classical folk mus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the 1920’s, English lyrics were popul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Neue Deutsche Welle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movement led German singers to go international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Nena and other singers became popular worldwid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Deutschrock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encouraged many German singers to adapt German lyrics in modern mus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2438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3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Picture 7" descr="Nena freut sich Großmutter zu werden."/>
          <p:cNvPicPr/>
          <p:nvPr/>
        </p:nvPicPr>
        <p:blipFill>
          <a:blip r:embed="rId1"/>
          <a:stretch/>
        </p:blipFill>
        <p:spPr>
          <a:xfrm>
            <a:off x="4267080" y="228600"/>
            <a:ext cx="452448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German singer Helene Fischer stands on stage with her prize ..."/>
          <p:cNvPicPr/>
          <p:nvPr/>
        </p:nvPicPr>
        <p:blipFill>
          <a:blip r:embed="rId2"/>
          <a:stretch/>
        </p:blipFill>
        <p:spPr>
          <a:xfrm>
            <a:off x="457200" y="3124080"/>
            <a:ext cx="46864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5715000" y="46483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ue Highway Linocut"/>
              </a:rPr>
              <a:t>German Sing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elene Fis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QUESTIONS / FRA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one of the famous German compos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 media is dual existence of _______ and _______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ANSWERS / ANTWORT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thoven, Bach, Schumann, Mendelssohn, Brah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/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49:02Z</dcterms:created>
  <dc:creator>SCSadmin</dc:creator>
  <dc:description/>
  <dc:language>en-US</dc:language>
  <cp:lastModifiedBy>SCSadmin</cp:lastModifiedBy>
  <dcterms:modified xsi:type="dcterms:W3CDTF">2011-11-09T17:27:08Z</dcterms:modified>
  <cp:revision>33</cp:revision>
  <dc:subject/>
  <dc:title>GERMAN CUSTOMS AND TRADITIONS</dc:title>
</cp:coreProperties>
</file>